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3C5-2C97-44CC-B026-B11100FC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EE6-615C-4A99-AE9B-05E685C9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41F-64CE-43EE-A9F1-7556C71C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A67-B9F6-419B-AD78-2EF3C9CF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459D-FC96-4910-B33B-89F014DB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A03B-9346-4F04-9017-8D470313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FC30-70E6-4344-988B-4B77A198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3E98-F435-4935-B556-1899CA40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988C-E334-4ACE-B37F-616BA8C0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6347-8475-4D41-9447-F1200AB4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27F0-C09C-4415-8C2E-F1AF4B3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D6C-E939-4FD6-92CB-85C2674E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F082-106D-4E91-B2E8-58CCD543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04EF-51C2-47A3-9992-E23B7E4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4019-BC7D-46EE-9BE0-40C65D2B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1D8E-120D-4722-8163-3675482F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9B08-5D97-45E7-9301-3479394D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72C-97C3-4409-8837-CC5B2202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3CB-D858-48BA-A17C-99F9DCB5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AD8-623C-4106-AD36-5E3CDC75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D97-5A4E-493A-81B6-EA294FE8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202-2AD6-499F-8E28-B25374C1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23B-6CCB-4ABF-A950-AD891E1B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E9C-7163-4125-9096-753DDA68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828800"/>
            <a:ext cx="472464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106668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0BE4-F471-4D00-9B80-D0493FCFF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C39A-EA57-40BB-84D6-4EA01470C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900" spc="-1" strike="noStrike">
                <a:solidFill>
                  <a:srgbClr val="cbcbcb"/>
                </a:solidFill>
                <a:latin typeface="Arial"/>
                <a:ea typeface="Times New Roman"/>
              </a:rPr>
              <a:t>3rd </a:t>
            </a:r>
            <a:r>
              <a:rPr b="1" lang="en-US" sz="3900" spc="-1" strike="noStrike">
                <a:solidFill>
                  <a:srgbClr val="cbcbcb"/>
                </a:solidFill>
                <a:latin typeface="Arial"/>
                <a:ea typeface="Times New Roman"/>
              </a:rPr>
              <a:t>Phase</a:t>
            </a:r>
            <a:r>
              <a:rPr b="0" lang="sk-SK" sz="3900" spc="-1" strike="noStrike">
                <a:solidFill>
                  <a:srgbClr val="cbcbcb"/>
                </a:solidFill>
                <a:latin typeface="Arial"/>
                <a:ea typeface="Times New Roman"/>
              </a:rPr>
              <a:t>: </a:t>
            </a:r>
            <a:br>
              <a:rPr sz="3900"/>
            </a:br>
            <a:r>
              <a:rPr b="1" lang="sk-SK" sz="3900" spc="-1" strike="noStrike">
                <a:solidFill>
                  <a:srgbClr val="ffffff"/>
                </a:solidFill>
                <a:latin typeface="Arial"/>
              </a:rPr>
              <a:t>PROJE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sk-SK" sz="39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sk-SK" sz="3900" spc="-1" strike="noStrike">
                <a:solidFill>
                  <a:srgbClr val="cbcbcb"/>
                </a:solidFill>
                <a:latin typeface="Arial"/>
                <a:ea typeface="Times New Roman"/>
              </a:rPr>
              <a:t> </a:t>
            </a:r>
            <a:r>
              <a:rPr b="1" lang="sk-SK" sz="3900" spc="-1" strike="noStrike">
                <a:solidFill>
                  <a:srgbClr val="ffffff"/>
                </a:solidFill>
                <a:latin typeface="Arial"/>
              </a:rPr>
              <a:t>ORGANI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sk-SK" sz="39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IO</a:t>
            </a:r>
            <a:r>
              <a:rPr b="1" lang="sk-SK" sz="39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9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057400"/>
            <a:ext cx="8001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ffffff"/>
                </a:solidFill>
                <a:latin typeface="Arial"/>
              </a:rPr>
              <a:t>Pl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k-SK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k-SK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800" spc="-1" strike="noStrike">
                <a:solidFill>
                  <a:srgbClr val="ffffff"/>
                </a:solidFill>
                <a:latin typeface="Arial"/>
              </a:rPr>
              <a:t>Implement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1" lang="sk-SK" sz="3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cruit staff and organize p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roj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a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m memb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ssign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sponsibility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r Work pack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lve c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nfl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un project meet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 u="sng">
                <a:solidFill>
                  <a:srgbClr val="cbcbcb"/>
                </a:solidFill>
                <a:uFillTx/>
                <a:latin typeface="Arial"/>
              </a:rPr>
              <a:t>Example</a:t>
            </a:r>
            <a:r>
              <a:rPr b="1" lang="sk-SK" sz="4000" spc="-1" strike="noStrike">
                <a:solidFill>
                  <a:srgbClr val="cbcbcb"/>
                </a:solidFill>
                <a:latin typeface="Arial"/>
              </a:rPr>
              <a:t>: Conference Planning  (3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362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2209680"/>
          <a:ext cx="85345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85345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cbcbcb"/>
                </a:solidFill>
                <a:uFillTx/>
                <a:latin typeface="Arial"/>
              </a:rPr>
              <a:t>Example</a:t>
            </a:r>
            <a:r>
              <a:rPr b="1" lang="sk-SK" sz="4100" spc="-1" strike="noStrike">
                <a:solidFill>
                  <a:srgbClr val="cbcbcb"/>
                </a:solidFill>
                <a:latin typeface="Arial"/>
              </a:rPr>
              <a:t>: Conference Planning</a:t>
            </a:r>
            <a:r>
              <a:rPr b="1" lang="en-US" sz="41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sk-SK" sz="4100" spc="-1" strike="noStrike">
                <a:solidFill>
                  <a:srgbClr val="cbcbcb"/>
                </a:solidFill>
                <a:latin typeface="Arial"/>
              </a:rPr>
              <a:t>(4)</a:t>
            </a:r>
            <a:endParaRPr b="0" lang="en-US" sz="4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2133720"/>
          <a:ext cx="8610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8610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Guidelines for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effective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project leadership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36232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overdirect, over-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gnize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differenc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individu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See problem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cha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Allow more freedo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duals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ognize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creativity of  team membe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Support tolerance f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stakes,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failu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React to the positive side of id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Guidelines for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effective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project leadership (2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6668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a resource person rather than an controll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Creat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“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ffe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r zone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tween the project team and environ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Listen carefu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Develop your own creativ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MOTIVA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IONAL 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FA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C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TOR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0574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ing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esting work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mber of a successful te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icipation in goal setting, problem solving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ognition, suc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portunity for personal develop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bcbcb"/>
                </a:solidFill>
                <a:latin typeface="Arial"/>
              </a:rPr>
              <a:t>Evolution and team development</a:t>
            </a:r>
            <a:endParaRPr b="0" lang="en-US" sz="4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4382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ges of evolu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ormi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ming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ming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orming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journing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Managing team cohesivenes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1337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Rich inner inte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Common 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titudes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and go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perordinate go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Common ene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Succes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achieving go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w external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interact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olution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differenc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Availability of resourc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MANAGING 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CONFLI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C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05740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Define problem in term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needs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, n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solu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ainstorm possible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solu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 the solutions that will best meet both party’s n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Pla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h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ill do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hat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here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w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lement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the pl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valuat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oblem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solving pr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MANAGING CONFLICT (2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23623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Approach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Competi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 approa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laborating approa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Comprom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g approa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Avoi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aches approa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Accommoda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g approa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Manag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g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 Effective Meeting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286000"/>
            <a:ext cx="86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400" spc="-1" strike="noStrike">
                <a:solidFill>
                  <a:srgbClr val="ffffff"/>
                </a:solidFill>
                <a:latin typeface="Arial"/>
              </a:rPr>
              <a:t>Meeting - only if it is necessar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reparing for the m</a:t>
            </a:r>
            <a:r>
              <a:rPr b="1" lang="sk-SK" sz="3400" spc="-1" strike="noStrike">
                <a:solidFill>
                  <a:srgbClr val="ffffff"/>
                </a:solidFill>
                <a:latin typeface="Arial"/>
              </a:rPr>
              <a:t>eeting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t a few manageable objectiv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Select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ey participant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lect a p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lace and tim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Prepare and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distribute programme, define problems, which are necessary to solve, expected outpu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RESPONSIBILITY</a:t>
            </a:r>
            <a:r>
              <a:rPr b="1" lang="sk-SK" sz="4000" spc="-1" strike="noStrike">
                <a:solidFill>
                  <a:srgbClr val="cbcbcb"/>
                </a:solidFill>
                <a:latin typeface="Arial"/>
              </a:rPr>
              <a:t> OF PROJE</a:t>
            </a: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C</a:t>
            </a:r>
            <a:r>
              <a:rPr b="1" lang="sk-SK" sz="4000" spc="-1" strike="noStrike">
                <a:solidFill>
                  <a:srgbClr val="cbcbcb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cbcbcb"/>
                </a:solidFill>
                <a:latin typeface="Arial"/>
              </a:rPr>
              <a:t>MAN</a:t>
            </a: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AGE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133720"/>
            <a:ext cx="86868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of a</a:t>
            </a: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ctivit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es</a:t>
            </a: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 pl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resources</a:t>
            </a: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ssignment of responsibilit</a:t>
            </a: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y etc.)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Monitor project progress,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etect variance </a:t>
            </a: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from plan, design and implementation of corrective actions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Monitor cost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port on project</a:t>
            </a: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 pro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r</a:t>
            </a: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es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ffffff"/>
                </a:solidFill>
                <a:latin typeface="Arial"/>
              </a:rPr>
              <a:t>Predict and solve problems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within team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Manag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g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 Effective Meeting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s 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(2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057400"/>
            <a:ext cx="86868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fffff"/>
                </a:solidFill>
                <a:latin typeface="Arial"/>
              </a:rPr>
              <a:t>2. Running the m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eeting</a:t>
            </a:r>
            <a:r>
              <a:rPr b="0" lang="sk-SK" sz="3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fffff"/>
                </a:solidFill>
                <a:latin typeface="Arial"/>
              </a:rPr>
              <a:t>Begin on tim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fffff"/>
                </a:solidFill>
                <a:latin typeface="Arial"/>
              </a:rPr>
              <a:t>Have somebody to take not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fffff"/>
                </a:solidFill>
                <a:latin typeface="Arial"/>
              </a:rPr>
              <a:t>Review the agenda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fffff"/>
                </a:solidFill>
                <a:latin typeface="Arial"/>
              </a:rPr>
              <a:t>Introduce the participants to each other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fffff"/>
                </a:solidFill>
                <a:latin typeface="Arial"/>
              </a:rPr>
              <a:t>Stay with the agenda. Keep on track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fffff"/>
                </a:solidFill>
                <a:latin typeface="Arial"/>
              </a:rPr>
              <a:t>Acknowledge everyone‘s contributi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fffff"/>
                </a:solidFill>
                <a:latin typeface="Arial"/>
              </a:rPr>
              <a:t>Conclude by stating major decisions taken, key outcomes, follow up (who, what, where, when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Manag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g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 Effective Meeting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s 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(3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0574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3. Follow-up to the meet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Distribute the follow up agenda to all, highlight assignments and time (who, what, when, how, expected outcomes etc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Periodically check progress and outc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mpower 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200" spc="-1" strike="noStrike">
                <a:solidFill>
                  <a:srgbClr val="cbcbcb"/>
                </a:solidFill>
                <a:latin typeface="Arial"/>
              </a:rPr>
              <a:t>Project manager tasks outwards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236232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Gain and sustain support from top 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Public re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Communicate with client / end-user, guide client expec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bcbcb"/>
                </a:solidFill>
                <a:latin typeface="Arial"/>
                <a:ea typeface="Times New Roman"/>
              </a:rPr>
              <a:t>3rd </a:t>
            </a:r>
            <a:r>
              <a:rPr b="1" lang="sk-SK" sz="4000" spc="-1" strike="noStrike">
                <a:solidFill>
                  <a:srgbClr val="cbcbcb"/>
                </a:solidFill>
                <a:latin typeface="Arial"/>
              </a:rPr>
              <a:t>Phase</a:t>
            </a:r>
            <a:r>
              <a:rPr b="1" lang="sk-SK" sz="4000" spc="-1" strike="noStrike">
                <a:solidFill>
                  <a:srgbClr val="cbcbcb"/>
                </a:solidFill>
                <a:latin typeface="Arial"/>
                <a:ea typeface="Times New Roman"/>
              </a:rPr>
              <a:t>:</a:t>
            </a:r>
            <a:r>
              <a:rPr b="0" lang="sk-SK" sz="4000" spc="-1" strike="noStrike">
                <a:solidFill>
                  <a:srgbClr val="cbcbcb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ORGANIZE PROJECT </a:t>
            </a:r>
            <a:br>
              <a:rPr sz="4000"/>
            </a:br>
            <a:r>
              <a:rPr b="1" lang="sk-SK" sz="40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259092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Project manager - requirements, tas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Team members -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Workpackages (WP) - descri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Task - descri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Balancing worklo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ffective project leader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bcbcb"/>
                </a:solidFill>
                <a:latin typeface="Arial"/>
                <a:ea typeface="Times New Roman"/>
              </a:rPr>
              <a:t>3rd </a:t>
            </a:r>
            <a:r>
              <a:rPr b="1" lang="sk-SK" sz="4000" spc="-1" strike="noStrike">
                <a:solidFill>
                  <a:srgbClr val="cbcbcb"/>
                </a:solidFill>
                <a:latin typeface="Arial"/>
              </a:rPr>
              <a:t>Phase</a:t>
            </a:r>
            <a:r>
              <a:rPr b="1" lang="sk-SK" sz="4000" spc="-1" strike="noStrike">
                <a:solidFill>
                  <a:srgbClr val="cbcbcb"/>
                </a:solidFill>
                <a:latin typeface="Arial"/>
                <a:ea typeface="Times New Roman"/>
              </a:rPr>
              <a:t>:</a:t>
            </a:r>
            <a:r>
              <a:rPr b="0" lang="sk-SK" sz="4000" spc="-1" strike="noStrike">
                <a:solidFill>
                  <a:srgbClr val="cbcbcb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ORGANIZE PROJECT </a:t>
            </a:r>
            <a:br>
              <a:rPr sz="4000"/>
            </a:br>
            <a:r>
              <a:rPr b="1" lang="sk-SK" sz="4000" spc="-1" strike="noStrike">
                <a:solidFill>
                  <a:srgbClr val="ff3300"/>
                </a:solidFill>
                <a:latin typeface="Arial"/>
              </a:rPr>
              <a:t>SUMMARY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5909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volution of te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Managing conflic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Managing effective meet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Project manager‘s tasks outw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20574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858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bcbcb"/>
                </a:solidFill>
                <a:latin typeface="Arial"/>
              </a:rPr>
              <a:t>PROJECT MANAGEMENT MEAN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5909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Leadership of  working te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Motivation of 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uni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Delegation of compet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k-SK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Requirements f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roject manag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cbcbcb"/>
                </a:solidFill>
                <a:latin typeface="Arial"/>
              </a:rPr>
              <a:t>CRITERIA FOR PROJECT MANAGER</a:t>
            </a:r>
            <a:endParaRPr b="0" lang="en-US" sz="3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4382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ducation and experi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Leadership and strategic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Technical knowl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Interpersonal skil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Manag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al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skil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PERSONAL SKIL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51460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tivate, inspire, support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sten to others, give feedback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ertive a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vent and solve confli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cate with team members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exible, to be able to play more ro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LEAD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1460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 a v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i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Creative, dyna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al-orien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sistent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, n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d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ouraged</a:t>
            </a:r>
            <a:r>
              <a:rPr b="0" i="1" lang="sk-SK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by partial fail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communication skills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Analyt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king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, intu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bcbcb"/>
                </a:solidFill>
                <a:latin typeface="Arial"/>
              </a:rPr>
              <a:t>CRITERIA FOR TEAM MEMBE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13372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ted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Creati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,  entrepreneurial spir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echnical skill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naly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ing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, intu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ask-orien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billity 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ngness t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wor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constraint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ime and resour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mmun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ion and team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asic knowledge of project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bcbcb"/>
                </a:solidFill>
                <a:uFillTx/>
                <a:latin typeface="Arial"/>
              </a:rPr>
              <a:t>Example</a:t>
            </a:r>
            <a:r>
              <a:rPr b="1" lang="sk-SK" sz="4400" spc="-1" strike="noStrike">
                <a:solidFill>
                  <a:srgbClr val="cbcbcb"/>
                </a:solidFill>
                <a:latin typeface="Arial"/>
              </a:rPr>
              <a:t>: Conference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905120"/>
            <a:ext cx="8001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ff"/>
                </a:solidFill>
                <a:latin typeface="Arial"/>
              </a:rPr>
              <a:t>Wor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1" lang="sk-SK" sz="3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ack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ge </a:t>
            </a:r>
            <a:r>
              <a:rPr b="1" lang="sk-SK" sz="3400" spc="-1" strike="noStrike">
                <a:solidFill>
                  <a:srgbClr val="ffffff"/>
                </a:solidFill>
                <a:latin typeface="Arial"/>
              </a:rPr>
              <a:t>(WP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Title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: Desig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&amp;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rint confere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e brochur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400" spc="-1" strike="noStrike" u="sng">
                <a:solidFill>
                  <a:srgbClr val="ffffff"/>
                </a:solidFill>
                <a:uFillTx/>
                <a:latin typeface="Arial"/>
              </a:rPr>
              <a:t>Manager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John Whit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400" spc="-1" strike="noStrike" u="sng">
                <a:solidFill>
                  <a:srgbClr val="ffffff"/>
                </a:solidFill>
                <a:uFillTx/>
                <a:latin typeface="Arial"/>
              </a:rPr>
              <a:t>Start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eek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400" spc="-1" strike="noStrike" u="sng">
                <a:solidFill>
                  <a:srgbClr val="ffffff"/>
                </a:solidFill>
                <a:uFillTx/>
                <a:latin typeface="Arial"/>
              </a:rPr>
              <a:t>End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eek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20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400" spc="-1" strike="noStrike" u="sng">
                <a:solidFill>
                  <a:srgbClr val="ffffff"/>
                </a:solidFill>
                <a:uFillTx/>
                <a:latin typeface="Arial"/>
              </a:rPr>
              <a:t>Critical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path</a:t>
            </a:r>
            <a:r>
              <a:rPr b="0" lang="sk-SK" sz="3400" spc="-1" strike="noStrike" u="sng">
                <a:solidFill>
                  <a:srgbClr val="ffffff"/>
                </a:solidFill>
                <a:uFillTx/>
                <a:latin typeface="Arial"/>
              </a:rPr>
              <a:t> (Y/N)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: Y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Immediate p</a:t>
            </a:r>
            <a:r>
              <a:rPr b="0" lang="sk-SK" sz="3400" spc="-1" strike="noStrike" u="sng">
                <a:solidFill>
                  <a:srgbClr val="ffffff"/>
                </a:solidFill>
                <a:uFillTx/>
                <a:latin typeface="Arial"/>
              </a:rPr>
              <a:t>re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decessor(</a:t>
            </a:r>
            <a:r>
              <a:rPr b="0" lang="sk-SK" sz="3400" spc="-1" strike="noStrike" u="sng">
                <a:solidFill>
                  <a:srgbClr val="ffffff"/>
                </a:solidFill>
                <a:uFillTx/>
                <a:latin typeface="Arial"/>
              </a:rPr>
              <a:t>s)</a:t>
            </a:r>
            <a:r>
              <a:rPr b="0" lang="sk-SK" sz="3400" spc="-1" strike="noStrike">
                <a:solidFill>
                  <a:srgbClr val="ffffff"/>
                </a:solidFill>
                <a:latin typeface="Arial"/>
              </a:rPr>
              <a:t>: C, D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cbcbcb"/>
                </a:solidFill>
                <a:uFillTx/>
                <a:latin typeface="Arial"/>
              </a:rPr>
              <a:t>Example</a:t>
            </a:r>
            <a:r>
              <a:rPr b="1" lang="sk-SK" sz="4200" spc="-1" strike="noStrike">
                <a:solidFill>
                  <a:srgbClr val="cbcbcb"/>
                </a:solidFill>
                <a:latin typeface="Arial"/>
              </a:rPr>
              <a:t>: Conference planning</a:t>
            </a:r>
            <a:r>
              <a:rPr b="1" lang="en-US" sz="42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sk-SK" sz="4200" spc="-1" strike="noStrike">
                <a:solidFill>
                  <a:srgbClr val="cbcbcb"/>
                </a:solidFill>
                <a:latin typeface="Arial"/>
              </a:rPr>
              <a:t>(2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51460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Task descrip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Tas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E.1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In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ut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bstracts of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pers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Duration of task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ek 11-13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eliverable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: Input t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broch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5:11:51Z</dcterms:created>
  <dc:creator>Robert Kende</dc:creator>
  <dc:description/>
  <dc:language>en-US</dc:language>
  <cp:lastModifiedBy>T. SABOL</cp:lastModifiedBy>
  <dcterms:modified xsi:type="dcterms:W3CDTF">2002-05-08T18:00:59Z</dcterms:modified>
  <cp:revision>105</cp:revision>
  <dc:subject/>
  <dc:title>“Ako vidím manažment medzinárodných projektov“ &amp;  IST Program </dc:title>
</cp:coreProperties>
</file>